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42720" y="3961800"/>
            <a:ext cx="795492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1900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42720" y="396180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19000" y="396180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32640" y="196164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22560" y="196164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42720" y="396180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32640" y="396180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22560" y="396180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388188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19000" y="1961640"/>
            <a:ext cx="388188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38040" y="228600"/>
            <a:ext cx="73422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19000" y="1961640"/>
            <a:ext cx="388188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42720" y="396180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388188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1900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19000" y="396180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1900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42720" y="3961800"/>
            <a:ext cx="795492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42720" y="3961800"/>
            <a:ext cx="795492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1900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42720" y="396180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19000" y="396180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32640" y="196164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22560" y="196164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42720" y="396180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32640" y="396180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22560" y="396180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388188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19000" y="1961640"/>
            <a:ext cx="388188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38040" y="228600"/>
            <a:ext cx="73422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19000" y="1961640"/>
            <a:ext cx="388188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42720" y="396180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388188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1900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19000" y="396180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1900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42720" y="3961800"/>
            <a:ext cx="795492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1630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Futura Bold"/>
              </a:rPr>
              <a:t>Click to edit the title text format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lvl="1" marL="566640" indent="1969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lvl="2" marL="957240" indent="-32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lvl="3" marL="247032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Futura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lvl="4" marL="288936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Futura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lvl="5" marL="288936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Futura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lvl="6" marL="288936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Futura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3" name=""/>
          <p:cNvSpPr/>
          <p:nvPr/>
        </p:nvSpPr>
        <p:spPr>
          <a:xfrm>
            <a:off x="1112760" y="6543720"/>
            <a:ext cx="412920" cy="2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rIns="0" t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CF83-44D7-49AE-9376-65D82719685D}" type="slidenum">
              <a:rPr b="0" lang="en-GB" sz="1200" spc="-1" strike="noStrike">
                <a:solidFill>
                  <a:srgbClr val="ffffff"/>
                </a:solidFill>
                <a:latin typeface="Futura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36600" y="1752480"/>
            <a:ext cx="86677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395520" y="6488280"/>
            <a:ext cx="584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 BookItalic"/>
              </a:rPr>
              <a:t>For learning and compe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59720" y="5856120"/>
            <a:ext cx="246996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937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98320" y="1447560"/>
            <a:ext cx="6769080" cy="1447560"/>
          </a:xfrm>
          <a:prstGeom prst="rect">
            <a:avLst/>
          </a:prstGeom>
          <a:noFill/>
          <a:ln w="0">
            <a:noFill/>
          </a:ln>
        </p:spPr>
        <p:txBody>
          <a:bodyPr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Futura Bold"/>
              </a:rPr>
              <a:t>Click to edit the title text format</a:t>
            </a:r>
            <a:endParaRPr b="0" lang="en-US" sz="28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45" name=""/>
          <p:cNvSpPr/>
          <p:nvPr/>
        </p:nvSpPr>
        <p:spPr>
          <a:xfrm>
            <a:off x="6094440" y="5715000"/>
            <a:ext cx="301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 BookItalic"/>
              </a:rPr>
              <a:t>For learning and compe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ook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lvl="1" marL="380880"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Garamond"/>
            </a:endParaRPr>
          </a:p>
          <a:p>
            <a:pPr lvl="2" marL="954000" algn="ctr">
              <a:lnSpc>
                <a:spcPct val="90000"/>
              </a:lnSpc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aramond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Garamond"/>
            </a:endParaRPr>
          </a:p>
          <a:p>
            <a:pPr lvl="3" marL="1371600" indent="870120" algn="ctr">
              <a:spcBef>
                <a:spcPts val="249"/>
              </a:spcBef>
              <a:buClr>
                <a:srgbClr val="000000"/>
              </a:buClr>
              <a:buFont typeface="Futura 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Bold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Futura Bold"/>
            </a:endParaRPr>
          </a:p>
          <a:p>
            <a:pPr lvl="4" marL="1828800" indent="831960" algn="ctr">
              <a:spcBef>
                <a:spcPts val="249"/>
              </a:spcBef>
              <a:buClr>
                <a:srgbClr val="000000"/>
              </a:buClr>
              <a:buFont typeface="Futura Bol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Bold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Futura Bold"/>
            </a:endParaRPr>
          </a:p>
          <a:p>
            <a:pPr lvl="5" marL="1828800" indent="831960">
              <a:spcBef>
                <a:spcPts val="249"/>
              </a:spcBef>
              <a:buClr>
                <a:srgbClr val="000000"/>
              </a:buClr>
              <a:buFont typeface="Futura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Bold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Futura Bold"/>
            </a:endParaRPr>
          </a:p>
          <a:p>
            <a:pPr lvl="6" marL="1828800" indent="831960">
              <a:spcBef>
                <a:spcPts val="249"/>
              </a:spcBef>
              <a:buClr>
                <a:srgbClr val="000000"/>
              </a:buClr>
              <a:buFont typeface="Futura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Bold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Futu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98320" y="1447560"/>
            <a:ext cx="6769080" cy="1447560"/>
          </a:xfrm>
          <a:prstGeom prst="rect">
            <a:avLst/>
          </a:prstGeom>
          <a:noFill/>
          <a:ln w="0">
            <a:noFill/>
          </a:ln>
        </p:spPr>
        <p:txBody>
          <a:bodyPr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Futura Bold"/>
              </a:rPr>
              <a:t>C</a:t>
            </a:r>
            <a:r>
              <a:rPr b="0" lang="fi-FI" sz="2800" spc="-1" strike="noStrike">
                <a:solidFill>
                  <a:srgbClr val="5f5f5f"/>
                </a:solidFill>
                <a:latin typeface="Futura Bold"/>
              </a:rPr>
              <a:t>ompetence-Based Qualifications in Finland</a:t>
            </a:r>
            <a:endParaRPr b="0" lang="en-US" sz="28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67200" y="2971440"/>
            <a:ext cx="5200560" cy="76212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indent="0" algn="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85" name=""/>
          <p:cNvSpPr/>
          <p:nvPr/>
        </p:nvSpPr>
        <p:spPr>
          <a:xfrm>
            <a:off x="738360" y="5735520"/>
            <a:ext cx="23842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9600" bIns="396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Futura Book"/>
              </a:rPr>
              <a:t>Marketta Saarin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QUALIFICATION COMMITTEES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Each compentence-based qualification is administered either by a national or regional Qualification Committee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Members are representatives of employers, employees, entrepreneurs and teachers in the field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Max. 9 members; the majority of members must represent employers, employees and entrepreneurs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As many employers and employees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Sit for 3-year periods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THE ROLE OF THE QUALIFICATION COMMITTEES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Oversee the organisation  of qualifications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Make contracts with educational institutions who then in practice organize and implement the competence tests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Verify attainments and sign certificates together with the contract organizations (educational institutions)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Make proposals to develop the whole system and the requirements of qualifications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REQUIREMENTS OF QUALIFICATIONS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Decided by the National Board of Education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Experts from working life and educational institutions draw up the requirements of qualifications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Define the professional skills requirements, assessment criteria and the ways and methods of demonstrating skills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Qualifications are divided into modules according to the sets of tasks and core functions of a profession 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ORGANISERS OF TRAINING AND COMPETENCE TESTS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Educational institutions organize preparatory training for the competence-based qualifications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Educational institutions who want to arrange competence tests need to sign a contract with the Qualification Committee of the appropriate sector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Organisers plan and evaluate the competence tests in close co-operation with experts of working life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NUMBER OF QUALIFICATION TAKERS</a:t>
            </a:r>
            <a:br>
              <a:rPr sz="2400"/>
            </a:b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1995-2002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243080" y="1962000"/>
          <a:ext cx="7954920" cy="382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3080" y="1962000"/>
                    <a:ext cx="7954920" cy="38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HOW QUALIFICATIONS ARE PASSED, 2001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WHOLE QUALIFICATION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  56 %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ONE MODULE OR MORE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  27 %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FAIL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  17 %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TOTAL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100 %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NUMBER OF QUALIFICATION TAKERS</a:t>
            </a:r>
            <a:br>
              <a:rPr sz="2400"/>
            </a:b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AT DIFFERENT LEVELS,</a:t>
            </a:r>
            <a:br>
              <a:rPr sz="2400"/>
            </a:b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2001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BASIC VOCATIONAL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11 200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30 %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FURTHER VOCATIONAL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22 400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61 %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SPECIALIST VOCATIONAL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3 400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   9 %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TOTAL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37 000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100 %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WAYS TO QUALIFICATIONS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9880" y="1828440"/>
            <a:ext cx="8502840" cy="4267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SELF-MOTIVATED TRAINING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50 %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APPRENTICESHIP TRAINING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22 %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LABOUR MARKET TRAINING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15 %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DIRECT ACCESS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10 %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ON-THE-JOB TRAINING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  3 %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TOTAL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100 %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TESTS OF COMPETENCE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Tests of competence are arranged at workplaces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Professional skills are demonstrated in practical tasks which can be complemented either orally, in writing or in some other way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A test of competence contains tasks that form a part of a normal working day in a particular work environment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Tests of competence are assessed by experts from both working life and the teaching sector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The candidate is considered an equal evaluator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The assessment scale of vocational qualifications ranges from excellent (5) to good (4-3) and satisfactory (2-1)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Further and Specialist Vocational Qualifications are marked with pass/fail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Plan for skills demonstrations </a:t>
            </a:r>
            <a:br>
              <a:rPr sz="2400"/>
            </a:br>
            <a:r>
              <a:rPr b="0" lang="fi-FI" sz="1800" spc="-1" strike="noStrike">
                <a:solidFill>
                  <a:srgbClr val="5f5f5f"/>
                </a:solidFill>
                <a:latin typeface="Futura Bold"/>
              </a:rPr>
              <a:t>(Annex to contract of arranging skills demonstrations)</a:t>
            </a:r>
            <a:endParaRPr b="0" lang="en-US" sz="18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99000"/>
          </a:bodyPr>
          <a:p>
            <a:pPr marL="287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The organizer of skills demonstrations has to answer to following questions: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Skills demonstrations on a modular basis?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Skills demonstrations during preparatory training?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Are the work places where skills demonstrations are organized equipped to meet the skills requirements defined in the competence-based qualification?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Description of the content of skills demonstrations (practical tasks) and the assessment material?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Are the objects and criteria of assessment based on the competence-based qualification?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Futura Bold"/>
              </a:rPr>
              <a:t>BASIC PRINCIPLE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Futura Book"/>
              </a:rPr>
              <a:t>rofessional skills that h</a:t>
            </a: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ave been obtained in v</a:t>
            </a:r>
            <a:r>
              <a:rPr b="0" lang="en-GB" sz="2400" spc="-1" strike="noStrike">
                <a:solidFill>
                  <a:srgbClr val="000000"/>
                </a:solidFill>
                <a:latin typeface="Futura Book"/>
              </a:rPr>
              <a:t>arious</a:t>
            </a: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 ways</a:t>
            </a:r>
            <a:r>
              <a:rPr b="0" lang="en-GB" sz="2400" spc="-1" strike="noStrike">
                <a:solidFill>
                  <a:srgbClr val="000000"/>
                </a:solidFill>
                <a:latin typeface="Futura Book"/>
              </a:rPr>
              <a:t> independent of education and training may be demonstrated in competence tests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THE EVALUATION OF THE SYSTEM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National evaluation in 1999-2000 focused on the efficiency of the system and on the results given by the system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   </a:t>
            </a: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The competence tests were implemented in a variety of ways; some shortcomings came up in the arrangements and in the work of the Qualification Committees.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   </a:t>
            </a: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Both the students and representatives of working life regarded the skills assessed to be relevant.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OECD THEMATIC REVIEW ON ADULT LEARNING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290520" indent="-290520">
              <a:lnSpc>
                <a:spcPct val="8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According to the country report concerning Finland, the competence-based qualification system could provide a model for other countries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  ”</a:t>
            </a: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The competence-based qualification system is now well established and is highly regarded for giving national currency to vocational qualifications, both at upper and further educational level. The competence-based qualification system enables the accreditation of prior learning and recognition of informal learning, and the qualifications it provides are greatly sought after by employers.”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LEGAL BASIS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In the course of the 1990s a new system of competence-based qualifications was developed and designed for the adult population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The system came into force in 1994 and competence tests have been arranged since then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The system was revised at the beginning of 1999 through an Act (631/1998) and Decree (812/1998)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BACKGROUND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Middle-aged population was lacking formal qualifications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Pressure from the social partners: the need to better meet the requirements of working life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Need to accredit prior learning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Less time used for training – financial savings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Need to improve the quality of adult education 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81240" y="260280"/>
            <a:ext cx="42465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LEVELS OF QUALIFICATIONS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290520" indent="-29052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Futura Book"/>
              </a:rPr>
              <a:t>Vocational qualifications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Basic skills in the professional field (the same qualification as the young people acquire in three-year programmes in school-based education)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Futura Book"/>
              </a:rPr>
              <a:t>Further vocational qualifications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    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Skilled worker (basic training + additional studies + three years’ work experience)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Futura Book"/>
              </a:rPr>
              <a:t>Specialist vocational qualifications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    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The most demanding tasks in the field (basic vocational training + additional studies +  five years’ work experience)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MAIN PRINCIPLES OF THE SYSTEM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99000"/>
          </a:bodyPr>
          <a:p>
            <a:pPr marL="287280" indent="-287280">
              <a:lnSpc>
                <a:spcPct val="8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Qualifications are independent of the way the competences have been acquired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8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Applicable to self-motivated, labour market, apprenticeship and in-service training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8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Skills requirements are rooted in working life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8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Modular structure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8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Personal study plans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8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Entrepreneurship is included in the skill requirements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8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Close co-operation with the social partners, educational authorities and teachers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8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Quality assurance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7342200" cy="111276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Futura Bold"/>
              </a:rPr>
              <a:t>Competence-based Qualifications System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88520" y="1961640"/>
            <a:ext cx="921708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290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99" name=""/>
          <p:cNvSpPr/>
          <p:nvPr/>
        </p:nvSpPr>
        <p:spPr>
          <a:xfrm>
            <a:off x="488880" y="1916280"/>
            <a:ext cx="2158920" cy="1225440"/>
          </a:xfrm>
          <a:prstGeom prst="rect">
            <a:avLst/>
          </a:prstGeom>
          <a:solidFill>
            <a:srgbClr val="fee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inistry of Edu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Legis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Titles of vocational qualif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(358 tit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37240" y="1773360"/>
            <a:ext cx="3024000" cy="1439640"/>
          </a:xfrm>
          <a:prstGeom prst="rect">
            <a:avLst/>
          </a:prstGeom>
          <a:solidFill>
            <a:srgbClr val="fee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ational Board of Edu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Verifies the qualifications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(expert groups; working life + teac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ppoints qualification committ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Evaluates the professional standards of educational institu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tions in arranging competence 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3240" y="2781360"/>
            <a:ext cx="1512720" cy="1152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ational Trai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ommittee (3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Qualif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92520" y="2276640"/>
            <a:ext cx="1728720" cy="43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67040" y="2349360"/>
            <a:ext cx="1654200" cy="43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22680" y="2205000"/>
            <a:ext cx="1869840" cy="43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22680" y="2276640"/>
            <a:ext cx="129528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22680" y="2276640"/>
            <a:ext cx="1798560" cy="43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22680" y="2205000"/>
            <a:ext cx="186984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24160" y="3573360"/>
            <a:ext cx="2808360" cy="1295640"/>
          </a:xfrm>
          <a:prstGeom prst="rect">
            <a:avLst/>
          </a:prstGeom>
          <a:solidFill>
            <a:srgbClr val="21a5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Educational Institutions (~35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Education preparing for CBQ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Organize competence test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with experts of working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8880" y="3357720"/>
            <a:ext cx="2158920" cy="2376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Qualification Committ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(168 committees, 1240 memb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Contracts with educa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nstitutions which then in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organise and impl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competence 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Quality of competence 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Oversees the arrangements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competence 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wards qualification certifi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47800" y="2276640"/>
            <a:ext cx="2017800" cy="43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22680" y="2205000"/>
            <a:ext cx="1584360" cy="43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47800" y="2205000"/>
            <a:ext cx="201780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22680" y="2205000"/>
            <a:ext cx="18698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7761240" y="2852640"/>
            <a:ext cx="432000" cy="43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7760880" y="2708280"/>
            <a:ext cx="360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722320" y="2924280"/>
            <a:ext cx="1942920" cy="64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47800" y="4149720"/>
            <a:ext cx="505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97600" y="4292640"/>
            <a:ext cx="2449440" cy="1152360"/>
          </a:xfrm>
          <a:prstGeom prst="rect">
            <a:avLst/>
          </a:prstGeom>
          <a:solidFill>
            <a:srgbClr val="21a5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AMK-institutions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vocational teacher trai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Training for Specialists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Competence-based Qualif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6107040" y="4292280"/>
            <a:ext cx="790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08160" y="5300640"/>
            <a:ext cx="2665440" cy="100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ALVAR-project (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assurance of competence tes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Draws up competence tests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(e.g. practical tests) for certain bran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665600" y="48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240160" y="321300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QUALIFICATION STRUCTURE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98000"/>
          </a:bodyPr>
          <a:p>
            <a:pPr marL="284400" indent="-28440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The Ministry of Education decides on the qualifications  that are included in the qualification structure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84400" indent="-28440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The qualification structure is revised annually according to changes in working life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84400" indent="-28440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At present there are 52 vocational qualifications, 187 further vocational qualifications and 128 specialist vocational qualifications in the qualification structure 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844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10:54:48Z</dcterms:created>
  <dc:creator>Toni Talvenheimo</dc:creator>
  <dc:description/>
  <dc:language>en-US</dc:language>
  <cp:lastModifiedBy>ophmas2</cp:lastModifiedBy>
  <dcterms:modified xsi:type="dcterms:W3CDTF">2003-06-11T09:16:59Z</dcterms:modified>
  <cp:revision>7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41824643</vt:r8>
  </property>
  <property fmtid="{D5CDD505-2E9C-101B-9397-08002B2CF9AE}" pid="3" name="_AuthorEmail">
    <vt:lpwstr>huisgufp@ej-gv.es</vt:lpwstr>
  </property>
  <property fmtid="{D5CDD505-2E9C-101B-9397-08002B2CF9AE}" pid="4" name="_AuthorEmailDisplayName">
    <vt:lpwstr>Azpiroz Artano, Igone</vt:lpwstr>
  </property>
  <property fmtid="{D5CDD505-2E9C-101B-9397-08002B2CF9AE}" pid="5" name="_EmailSubject">
    <vt:lpwstr>PONENCIA</vt:lpwstr>
  </property>
  <property fmtid="{D5CDD505-2E9C-101B-9397-08002B2CF9AE}" pid="6" name="_PreviousAdHocReviewCycleID">
    <vt:r8>2082250989</vt:r8>
  </property>
</Properties>
</file>