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E2E-3C27-454E-A99F-66A49F2F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F2B-2D1B-4DC8-BE45-F1C1C90B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FDE-0023-45EF-85AB-E98E6F3B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A57-D5F8-4596-B67D-DC49FD89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315-37BC-43A0-9B56-9954EB2C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162-74A4-4376-9677-355544D7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89F-255F-4924-840F-E1D8D231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226-93BD-4017-A33E-4EB54026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2F7-CB27-4B41-A39B-439C6E20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64D-8958-4989-BFEF-D295C38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347-5F90-490B-BE1D-D84D250A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32F-1E05-4CFA-AF5A-01AA79A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36FF-D787-412F-B3B9-DE8BF2922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ERTIFIC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LA FORMATION PROFESSIONNEL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 De la formation au diplôm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système unique n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_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modalités plus souples en formation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_1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172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définition partenari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diplô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_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diplômes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paliers success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_2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657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ourse aux diplôm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ans-titre-5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6:54:41Z</dcterms:created>
  <dc:creator>Dig</dc:creator>
  <dc:description/>
  <dc:language>en-US</dc:language>
  <cp:lastModifiedBy>Dig</cp:lastModifiedBy>
  <dcterms:modified xsi:type="dcterms:W3CDTF">2003-06-16T08:11:08Z</dcterms:modified>
  <cp:revision>8</cp:revision>
  <dc:subject/>
  <dc:title>LA CERTIFICATION  DE LA FORMATION PROFESSIONNELLE  EN F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3604265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