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A485-FDC3-43F4-92FA-64B81A144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DF08-C81E-41A8-80A1-06D20BA42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0BC9-B3FA-4AF5-A468-4927E0B5B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517C-0A98-4BD9-ADB5-914BDCA14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377F-88B8-4E25-ABD1-176231E4F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FEB4-F843-4F48-B6F7-C48B58C62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6C62-B72A-430D-B67E-8534C1512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D616-C932-4B8D-BFE2-DBFE17525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6152-B9C4-4612-8568-ABC3ADA3F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AB91-B5A1-4F32-919A-52122342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D5FA-9F4C-4F29-895A-E89106F0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5817-7BD2-45FD-B19D-031B5B46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28909-6DA1-4203-B0D9-1968360E02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CERTIFIC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 LA FORMATION PROFESSIONNEL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 FR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« De la formation au diplôme 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01000" y="6248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 système unique na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077320" y="6095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image_3" descr=""/>
          <p:cNvPicPr/>
          <p:nvPr/>
        </p:nvPicPr>
        <p:blipFill>
          <a:blip r:embed="rId1"/>
          <a:stretch/>
        </p:blipFill>
        <p:spPr>
          <a:xfrm>
            <a:off x="2057400" y="1752480"/>
            <a:ext cx="51814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 modalités plus souples en formation contin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001000" y="6172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image_1" descr=""/>
          <p:cNvPicPr/>
          <p:nvPr/>
        </p:nvPicPr>
        <p:blipFill>
          <a:blip r:embed="rId1"/>
          <a:stretch/>
        </p:blipFill>
        <p:spPr>
          <a:xfrm>
            <a:off x="1371600" y="2133720"/>
            <a:ext cx="61722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e définition partenaria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 diplô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153280" y="6095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image_4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0292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 diplômes 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 paliers successif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924680" y="6172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image_2" descr=""/>
          <p:cNvPicPr/>
          <p:nvPr/>
        </p:nvPicPr>
        <p:blipFill>
          <a:blip r:embed="rId1"/>
          <a:stretch/>
        </p:blipFill>
        <p:spPr>
          <a:xfrm>
            <a:off x="2438280" y="2057400"/>
            <a:ext cx="36576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course aux diplôme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153280" y="6172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Sans-titre-5" descr=""/>
          <p:cNvPicPr/>
          <p:nvPr/>
        </p:nvPicPr>
        <p:blipFill>
          <a:blip r:embed="rId1"/>
          <a:stretch/>
        </p:blipFill>
        <p:spPr>
          <a:xfrm>
            <a:off x="2209680" y="1600200"/>
            <a:ext cx="47246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6T06:54:41Z</dcterms:created>
  <dc:creator>Dig</dc:creator>
  <dc:description/>
  <dc:language>en-US</dc:language>
  <cp:lastModifiedBy>Dig</cp:lastModifiedBy>
  <dcterms:modified xsi:type="dcterms:W3CDTF">2003-06-16T08:11:08Z</dcterms:modified>
  <cp:revision>8</cp:revision>
  <dc:subject/>
  <dc:title>LA CERTIFICATION  DE LA FORMATION PROFESSIONNELLE  EN FRAN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23604265</vt:r8>
  </property>
  <property fmtid="{D5CDD505-2E9C-101B-9397-08002B2CF9AE}" pid="3" name="_AuthorEmail">
    <vt:lpwstr>huisgufp@ej-gv.es</vt:lpwstr>
  </property>
  <property fmtid="{D5CDD505-2E9C-101B-9397-08002B2CF9AE}" pid="4" name="_AuthorEmailDisplayName">
    <vt:lpwstr>Azpiroz Artano, Igone</vt:lpwstr>
  </property>
  <property fmtid="{D5CDD505-2E9C-101B-9397-08002B2CF9AE}" pid="5" name="_EmailSubject">
    <vt:lpwstr>PONENCIA</vt:lpwstr>
  </property>
</Properties>
</file>