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25F-99B8-4A58-8E62-9636876A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980-DB8E-4630-9246-78433DB9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A2D-2B9F-4C09-91A8-07C90D64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9FA-3E37-4290-8405-C6C39960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FF76-A6BB-4AE4-9011-14F0836B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ED5F-D502-49E9-980F-04ECA0DC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59F3-B92D-4761-B0C1-EA9CAF72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B6DA-7C7C-4C36-A081-44CE6594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428B-E39A-4203-925C-3A3EFBC1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A231-60C6-401D-A958-232E7F5C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637D-C8E8-48E0-8090-CD6EFAE4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D11-106A-4200-A89A-197C8CF3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002C-46FD-4C38-9909-DFA52CB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72DD-A6D8-47D5-9216-83ECE837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A2C3-A308-456C-8C9C-BF4B014F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EDCB-33A0-4234-9340-91310CAE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97AB-C044-4B5E-8B3B-C16C7AA6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234-C96B-4C38-97F1-4A93CE50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773-246F-466D-82A7-CF37B709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06C-1CF0-4725-ACB7-5580A6DE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083-CDFB-46C9-BC76-272D63B5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94C-863B-4A2E-9C77-95629A7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43C-90A7-425C-BA8E-52C3774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109-1C9E-4118-8743-0DD472C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4972-411B-4045-B987-E3195AB8E98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0632-A5A8-44CC-8EC7-3FCA3DB7D2B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ALIDATION DES ACQUIS DE L’EXPERI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En Région LIMOUS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FR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30E2-FFE4-4992-9F85-7AAB90EC98E5}" type="slidenum"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.A.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Comment reconnaître l’acquisition de compétences en des lieux différents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pe03166_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2346480" cy="2474640"/>
          </a:xfrm>
          <a:prstGeom prst="rect">
            <a:avLst/>
          </a:prstGeom>
          <a:ln w="0">
            <a:noFill/>
          </a:ln>
        </p:spPr>
      </p:pic>
      <p:pic>
        <p:nvPicPr>
          <p:cNvPr id="98" name="pe03254_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bl00381_" descr=""/>
          <p:cNvPicPr/>
          <p:nvPr/>
        </p:nvPicPr>
        <p:blipFill>
          <a:blip r:embed="rId3"/>
          <a:stretch/>
        </p:blipFill>
        <p:spPr>
          <a:xfrm>
            <a:off x="6400800" y="3429000"/>
            <a:ext cx="2301840" cy="189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4191120"/>
            <a:ext cx="106704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3760" y="4267080"/>
            <a:ext cx="99036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bd00028_" descr=""/>
          <p:cNvPicPr/>
          <p:nvPr/>
        </p:nvPicPr>
        <p:blipFill>
          <a:blip r:embed="rId4"/>
          <a:stretch/>
        </p:blipFill>
        <p:spPr>
          <a:xfrm>
            <a:off x="3886200" y="5638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4582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’organisation de la VAE </a:t>
            </a:r>
            <a:br>
              <a:rPr sz="4400"/>
            </a:b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en LIMOUS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e03254_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6" name="pe03254_" descr=""/>
          <p:cNvPicPr/>
          <p:nvPr/>
        </p:nvPicPr>
        <p:blipFill>
          <a:blip r:embed="rId2"/>
          <a:stretch/>
        </p:blipFill>
        <p:spPr>
          <a:xfrm>
            <a:off x="3124080" y="411480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7" name="pe03254_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8" name="pe03254_" descr=""/>
          <p:cNvPicPr/>
          <p:nvPr/>
        </p:nvPicPr>
        <p:blipFill>
          <a:blip r:embed="rId4"/>
          <a:stretch/>
        </p:blipFill>
        <p:spPr>
          <a:xfrm>
            <a:off x="7010280" y="4191120"/>
            <a:ext cx="1406520" cy="126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 rot="16267800">
            <a:off x="4571280" y="2283120"/>
            <a:ext cx="228600" cy="6934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6019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ENTRES DE VALIDATION = LYCEES DES METI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2438640" cy="17524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ff"/>
                </a:solidFill>
                <a:latin typeface="Times New Roman"/>
              </a:rPr>
              <a:t>RECTOR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05120" y="3048120"/>
            <a:ext cx="1218960" cy="1066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733560" y="3733920"/>
            <a:ext cx="15228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581280"/>
            <a:ext cx="533520" cy="60984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3200400"/>
            <a:ext cx="1828800" cy="99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3908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procédure pour le candidat à la VA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bd05584_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522440" cy="2033640"/>
          </a:xfrm>
          <a:prstGeom prst="rect">
            <a:avLst/>
          </a:prstGeom>
          <a:ln w="0">
            <a:noFill/>
          </a:ln>
        </p:spPr>
      </p:pic>
      <p:pic>
        <p:nvPicPr>
          <p:cNvPr id="121" name="bd06639_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122" name="pe01194_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2361960" cy="1387440"/>
          </a:xfrm>
          <a:prstGeom prst="rect">
            <a:avLst/>
          </a:prstGeom>
          <a:ln w="0">
            <a:noFill/>
          </a:ln>
        </p:spPr>
      </p:pic>
      <p:pic>
        <p:nvPicPr>
          <p:cNvPr id="123" name="bd06517_" descr=""/>
          <p:cNvPicPr/>
          <p:nvPr/>
        </p:nvPicPr>
        <p:blipFill>
          <a:blip r:embed="rId4"/>
          <a:stretch/>
        </p:blipFill>
        <p:spPr>
          <a:xfrm>
            <a:off x="533520" y="487692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pe01562_" descr=""/>
          <p:cNvPicPr/>
          <p:nvPr/>
        </p:nvPicPr>
        <p:blipFill>
          <a:blip r:embed="rId5"/>
          <a:stretch/>
        </p:blipFill>
        <p:spPr>
          <a:xfrm>
            <a:off x="6781680" y="4419720"/>
            <a:ext cx="166536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pe01561_" descr=""/>
          <p:cNvPicPr/>
          <p:nvPr/>
        </p:nvPicPr>
        <p:blipFill>
          <a:blip r:embed="rId6"/>
          <a:stretch/>
        </p:blipFill>
        <p:spPr>
          <a:xfrm>
            <a:off x="3124080" y="2133720"/>
            <a:ext cx="2367000" cy="157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0" y="2971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304812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864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541008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86000" y="4038480"/>
            <a:ext cx="4114800" cy="91440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6248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principes de la VAE à l’Education Nation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éclaratif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l’expérience mise en mo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Inférenc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la dé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Quelle investiga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na01607_" descr=""/>
          <p:cNvPicPr/>
          <p:nvPr/>
        </p:nvPicPr>
        <p:blipFill>
          <a:blip r:embed="rId1"/>
          <a:stretch/>
        </p:blipFill>
        <p:spPr>
          <a:xfrm>
            <a:off x="4038480" y="3809880"/>
            <a:ext cx="1827360" cy="1685880"/>
          </a:xfrm>
          <a:prstGeom prst="rect">
            <a:avLst/>
          </a:prstGeom>
          <a:ln w="0">
            <a:noFill/>
          </a:ln>
        </p:spPr>
      </p:pic>
      <p:pic>
        <p:nvPicPr>
          <p:cNvPr id="141" name="bd05552_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209680" cy="1815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610480" y="6324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COMPETENCE 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5410080"/>
            <a:ext cx="3809880" cy="10670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Avec les robot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+1  = 2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4280" y="5410080"/>
            <a:ext cx="381024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ff"/>
                </a:solidFill>
                <a:latin typeface="Times New Roman"/>
              </a:rPr>
              <a:t>Avec les individu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1+1= 3 !!!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2860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’irréductible écart entre travail réel et travail prescr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1" i="1" lang="fr-F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ffcc66"/>
                </a:solidFill>
                <a:latin typeface="Times New Roman"/>
              </a:rPr>
              <a:t>L’apport personnel dans l’action de trav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bs00559_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286000" cy="1297080"/>
          </a:xfrm>
          <a:prstGeom prst="rect">
            <a:avLst/>
          </a:prstGeom>
          <a:ln w="0">
            <a:noFill/>
          </a:ln>
        </p:spPr>
      </p:pic>
      <p:pic>
        <p:nvPicPr>
          <p:cNvPr id="149" name="pe02002_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43200" y="3581280"/>
            <a:ext cx="1066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581280"/>
            <a:ext cx="12193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14800" y="3048120"/>
            <a:ext cx="22860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3048120"/>
            <a:ext cx="304920" cy="533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191120" y="35812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63120" y="632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conséquences de la démarche de VA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our le candidat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iplô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nouvelle compét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our les enseignants acteurs du dispositif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nouvelles pratiques pédagogiq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ctualisation des référentiels de cert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bd04972_" descr=""/>
          <p:cNvPicPr/>
          <p:nvPr/>
        </p:nvPicPr>
        <p:blipFill>
          <a:blip r:embed="rId1"/>
          <a:stretch/>
        </p:blipFill>
        <p:spPr>
          <a:xfrm>
            <a:off x="6553080" y="213516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59" name="pe03166_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1261800" cy="133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2590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172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.A.E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Un outil de formation tout au long de la v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i="1" lang="fr-FR" sz="3200" spc="-1" strike="noStrike">
                <a:solidFill>
                  <a:srgbClr val="ffffcc"/>
                </a:solidFill>
                <a:latin typeface="Times New Roman"/>
              </a:rPr>
              <a:t>= la  professionnalisation dur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5943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GR juin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bd04972_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4267080" cy="3198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3818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2:27:49Z</dcterms:created>
  <dc:creator>chantal riche</dc:creator>
  <dc:description/>
  <dc:language>en-US</dc:language>
  <cp:lastModifiedBy>Dig</cp:lastModifiedBy>
  <cp:lastPrinted>2003-06-13T11:59:10Z</cp:lastPrinted>
  <dcterms:modified xsi:type="dcterms:W3CDTF">2003-06-13T12:03:40Z</dcterms:modified>
  <cp:revision>16</cp:revision>
  <dc:subject/>
  <dc:title>LA VALIDATION DES ACQUIS DE L’EXPER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3683896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</Properties>
</file>