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C97-E87B-4561-9501-B600216B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54A-0070-4635-AC30-80F90B5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56E-E038-42D0-8C36-29401CBC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484-9862-4A51-BA4A-E85A8C52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C58-0105-4E7C-8191-6DE71D42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1FF-C7DE-4C76-A00A-2243082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96B-638F-43CD-991F-B0921FC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A71-8C6C-401E-9D42-2132DDB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C0F-FD9E-4405-8562-07D01EE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F09-6CC1-403C-8D39-AE430417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CDE-33B1-4F23-A18B-59BE1A5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C39-8FB9-4B79-91EA-B7E8B2A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DCB-9C41-473B-9C98-80138A715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ERTIFI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LA FORMATION PROFESSIONNEL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De la formation au diplôm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système unique n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modalités plus souples en formation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_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définition partenari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diplô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_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diplômes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aliers success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_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65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rse aux diplôm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ans-titre-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6:54:41Z</dcterms:created>
  <dc:creator>Dig</dc:creator>
  <dc:description/>
  <dc:language>en-US</dc:language>
  <cp:lastModifiedBy>Dig</cp:lastModifiedBy>
  <dcterms:modified xsi:type="dcterms:W3CDTF">2003-06-16T08:11:08Z</dcterms:modified>
  <cp:revision>8</cp:revision>
  <dc:subject/>
  <dc:title>LA CERTIFICATION  DE LA FORMATION PROFESSIONNELLE  EN F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604265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